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25.png" ContentType="image/png"/>
  <Override PartName="/ppt/media/image4.jpeg" ContentType="image/jpeg"/>
  <Override PartName="/ppt/media/image10.wmf" ContentType="image/x-wmf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34.png" ContentType="image/png"/>
  <Override PartName="/ppt/media/image17.wmf" ContentType="image/x-wmf"/>
  <Override PartName="/ppt/media/image35.png" ContentType="image/png"/>
  <Override PartName="/ppt/media/image5.jpeg" ContentType="image/jpe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678-5057-42DF-9EC7-58757000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1E2-6515-42F2-BB06-D64B4752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5F4-605F-49AE-B435-E0E7019A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A3F-2001-4B39-A0FE-BC3C3C74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CB1E-18AB-4367-98C2-B1E717CD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0E6D-84AC-4A7F-BC1C-CEE365D0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6C47-9096-4699-AB1C-CADABAD8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4893-D659-4816-8C6F-3EBB4819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01D0-EE68-47DC-98FE-155B3164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1C0-72F4-47DC-8CCD-5D3CC8E5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C34B-D0A4-4889-BA46-295B0F5C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EBE-D37D-460F-9365-F968DF5B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971E-DCE7-401F-88A8-C161B5B6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CBFB-63F1-42B1-A86A-5AE0A92A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E54C-FEDF-4371-BDF0-1ABC4688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A123-6A29-4C25-BBAF-E63763E3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F5D9-DD0F-4994-8D6C-091B52D5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59B-9DB4-423A-9061-FAA1B1A1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530-E4E5-46CB-A013-22667EF1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5F4-B604-4DA9-A9D1-B750DCF5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E31-043F-4DA0-A10C-961F36D6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CE9-F47B-4DA3-88AA-B6446125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0A8-9F61-4F16-9320-3B02DAC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594-290F-4AA4-ACF4-AD8E738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1EB23F5-06CA-4A56-BE0A-2A5A9B1FDF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81D44A-86F4-48B3-982F-DD4A884EFA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44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Yanqing Zh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niversity of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yz4hz@virginia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On Clock Network Design for Sub-threshold Circuitry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1B2D40AA-A724-4783-9657-546D9EA490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4F654ECD-7562-426E-9F61-9CD0A52089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lew Aware Clock Tree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-304920" y="53352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ighter nodal capacitance constrain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will corral sle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recovery through buffer is stronger function of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than input slew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refore, use higher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near clock source, smaller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at regist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86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6" name="Group 74"/>
          <p:cNvGrpSpPr/>
          <p:nvPr/>
        </p:nvGrpSpPr>
        <p:grpSpPr>
          <a:xfrm>
            <a:off x="5334120" y="609480"/>
            <a:ext cx="3504960" cy="2003760"/>
            <a:chOff x="5334120" y="609480"/>
            <a:chExt cx="3504960" cy="2003760"/>
          </a:xfrm>
        </p:grpSpPr>
        <p:pic>
          <p:nvPicPr>
            <p:cNvPr id="307" name="Picture 6" descr=""/>
            <p:cNvPicPr/>
            <p:nvPr/>
          </p:nvPicPr>
          <p:blipFill>
            <a:blip r:embed="rId1"/>
            <a:stretch/>
          </p:blipFill>
          <p:spPr>
            <a:xfrm>
              <a:off x="5410080" y="685800"/>
              <a:ext cx="3392280" cy="15235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08" name="TextBox 70"/>
            <p:cNvSpPr/>
            <p:nvPr/>
          </p:nvSpPr>
          <p:spPr>
            <a:xfrm>
              <a:off x="5738040" y="2133720"/>
              <a:ext cx="29487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lationship between slew, 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MAX 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, and pow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ounded Rectangle 71"/>
            <p:cNvSpPr/>
            <p:nvPr/>
          </p:nvSpPr>
          <p:spPr>
            <a:xfrm>
              <a:off x="5334120" y="609480"/>
              <a:ext cx="3504960" cy="198072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310" name="Group 75"/>
          <p:cNvGrpSpPr/>
          <p:nvPr/>
        </p:nvGrpSpPr>
        <p:grpSpPr>
          <a:xfrm>
            <a:off x="5791320" y="2743200"/>
            <a:ext cx="2666520" cy="2057040"/>
            <a:chOff x="5791320" y="2743200"/>
            <a:chExt cx="2666520" cy="2057040"/>
          </a:xfrm>
        </p:grpSpPr>
        <p:pic>
          <p:nvPicPr>
            <p:cNvPr id="311" name="Picture 7" descr=""/>
            <p:cNvPicPr/>
            <p:nvPr/>
          </p:nvPicPr>
          <p:blipFill>
            <a:blip r:embed="rId2"/>
            <a:stretch/>
          </p:blipFill>
          <p:spPr>
            <a:xfrm>
              <a:off x="5943600" y="2743200"/>
              <a:ext cx="2044800" cy="1603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12" name="Rounded Rectangle 72"/>
            <p:cNvSpPr/>
            <p:nvPr/>
          </p:nvSpPr>
          <p:spPr>
            <a:xfrm>
              <a:off x="5867280" y="2743200"/>
              <a:ext cx="2514240" cy="205704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13" name="TextBox 73"/>
            <p:cNvSpPr/>
            <p:nvPr/>
          </p:nvSpPr>
          <p:spPr>
            <a:xfrm>
              <a:off x="5791320" y="4343400"/>
              <a:ext cx="266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Output slew vs. load cap and input sl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78"/>
          <p:cNvGrpSpPr/>
          <p:nvPr/>
        </p:nvGrpSpPr>
        <p:grpSpPr>
          <a:xfrm>
            <a:off x="5715000" y="4952880"/>
            <a:ext cx="2742840" cy="1720080"/>
            <a:chOff x="5715000" y="4952880"/>
            <a:chExt cx="2742840" cy="1720080"/>
          </a:xfrm>
        </p:grpSpPr>
        <p:pic>
          <p:nvPicPr>
            <p:cNvPr id="315" name="Picture 3" descr=""/>
            <p:cNvPicPr/>
            <p:nvPr/>
          </p:nvPicPr>
          <p:blipFill>
            <a:blip r:embed="rId3"/>
            <a:stretch/>
          </p:blipFill>
          <p:spPr>
            <a:xfrm>
              <a:off x="5791320" y="4952880"/>
              <a:ext cx="2524680" cy="1495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16" name="Rounded Rectangle 76"/>
            <p:cNvSpPr/>
            <p:nvPr/>
          </p:nvSpPr>
          <p:spPr>
            <a:xfrm>
              <a:off x="5715000" y="4952880"/>
              <a:ext cx="2742840" cy="167616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d3481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17" name="TextBox 77"/>
            <p:cNvSpPr/>
            <p:nvPr/>
          </p:nvSpPr>
          <p:spPr>
            <a:xfrm>
              <a:off x="6172200" y="6400800"/>
              <a:ext cx="2133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sulting clock tree sha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82"/>
          <p:cNvGrpSpPr/>
          <p:nvPr/>
        </p:nvGrpSpPr>
        <p:grpSpPr>
          <a:xfrm>
            <a:off x="533520" y="4648320"/>
            <a:ext cx="4419360" cy="1980720"/>
            <a:chOff x="533520" y="4648320"/>
            <a:chExt cx="4419360" cy="1980720"/>
          </a:xfrm>
        </p:grpSpPr>
        <p:pic>
          <p:nvPicPr>
            <p:cNvPr id="319" name="Picture 8" descr=""/>
            <p:cNvPicPr/>
            <p:nvPr/>
          </p:nvPicPr>
          <p:blipFill>
            <a:blip r:embed="rId4"/>
            <a:stretch/>
          </p:blipFill>
          <p:spPr>
            <a:xfrm>
              <a:off x="609480" y="4724280"/>
              <a:ext cx="1980720" cy="15714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20" name="Picture 10" descr=""/>
            <p:cNvPicPr/>
            <p:nvPr/>
          </p:nvPicPr>
          <p:blipFill>
            <a:blip r:embed="rId5"/>
            <a:stretch/>
          </p:blipFill>
          <p:spPr>
            <a:xfrm>
              <a:off x="2895480" y="4724280"/>
              <a:ext cx="1980720" cy="15433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21" name="TextBox 79"/>
            <p:cNvSpPr/>
            <p:nvPr/>
          </p:nvSpPr>
          <p:spPr>
            <a:xfrm>
              <a:off x="1676520" y="6324480"/>
              <a:ext cx="2361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sulting optim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ounded Rectangle 81"/>
            <p:cNvSpPr/>
            <p:nvPr/>
          </p:nvSpPr>
          <p:spPr>
            <a:xfrm>
              <a:off x="533520" y="4648320"/>
              <a:ext cx="4419360" cy="198072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sp>
        <p:nvSpPr>
          <p:cNvPr id="323" name="Down Arrow 83"/>
          <p:cNvSpPr/>
          <p:nvPr/>
        </p:nvSpPr>
        <p:spPr>
          <a:xfrm>
            <a:off x="7010280" y="2590920"/>
            <a:ext cx="228240" cy="1519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4" name="Down Arrow 84"/>
          <p:cNvSpPr/>
          <p:nvPr/>
        </p:nvSpPr>
        <p:spPr>
          <a:xfrm rot="5400000">
            <a:off x="5181840" y="5334120"/>
            <a:ext cx="304560" cy="76176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5" name="Down Arrow 85"/>
          <p:cNvSpPr/>
          <p:nvPr/>
        </p:nvSpPr>
        <p:spPr>
          <a:xfrm>
            <a:off x="7010280" y="4800600"/>
            <a:ext cx="228240" cy="1519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6" name="TextBox 23"/>
          <p:cNvSpPr/>
          <p:nvPr/>
        </p:nvSpPr>
        <p:spPr>
          <a:xfrm>
            <a:off x="8686800" y="236232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4"/>
          <p:cNvSpPr/>
          <p:nvPr/>
        </p:nvSpPr>
        <p:spPr>
          <a:xfrm>
            <a:off x="8229600" y="457200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5"/>
          <p:cNvSpPr/>
          <p:nvPr/>
        </p:nvSpPr>
        <p:spPr>
          <a:xfrm>
            <a:off x="8305920" y="642852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4800600" y="640080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7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C3EAF130-442A-485D-9748-C257BBF858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F06AF0A8-28CB-4E5D-BD28-17B1268C8A8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 Clock Buffer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638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arises from operating in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olution: circuit in sub-threshold, clock network no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pacitive Boosting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osts ‘overdrive’ to higher tha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o level converter overhead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5943600" y="1295280"/>
            <a:ext cx="2285640" cy="3883680"/>
            <a:chOff x="5943600" y="1295280"/>
            <a:chExt cx="2285640" cy="3883680"/>
          </a:xfrm>
        </p:grpSpPr>
        <p:pic>
          <p:nvPicPr>
            <p:cNvPr id="337" name="Picture 3" descr=""/>
            <p:cNvPicPr/>
            <p:nvPr/>
          </p:nvPicPr>
          <p:blipFill>
            <a:blip r:embed="rId1"/>
            <a:stretch/>
          </p:blipFill>
          <p:spPr>
            <a:xfrm>
              <a:off x="5943600" y="1295280"/>
              <a:ext cx="2285640" cy="3458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38" name="TextBox 19"/>
            <p:cNvSpPr/>
            <p:nvPr/>
          </p:nvSpPr>
          <p:spPr>
            <a:xfrm>
              <a:off x="6324480" y="4724280"/>
              <a:ext cx="190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Concept of capacitive boosting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Slide Number Placeholder 9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A2FA97AD-2BC7-451F-94C1-DD175EE9CA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 Clock Buffer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hortcomings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igher static and leakage power/energy for buff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Greater area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ot integrated into design flo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omplexities with timing and clock gating(1/2 cycle startup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oesn’t save power at lower frequencies for se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oesn’t necessarily address process variation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rastic improvement in slew (2.6x at 0.4V, 1 pF load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etter overall clock network energy due to fewer # of buff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rastic improvement in sk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42" name="Group 29"/>
          <p:cNvGrpSpPr/>
          <p:nvPr/>
        </p:nvGrpSpPr>
        <p:grpSpPr>
          <a:xfrm>
            <a:off x="6248520" y="2057400"/>
            <a:ext cx="2666520" cy="2052720"/>
            <a:chOff x="6248520" y="2057400"/>
            <a:chExt cx="2666520" cy="2052720"/>
          </a:xfrm>
        </p:grpSpPr>
        <p:pic>
          <p:nvPicPr>
            <p:cNvPr id="343" name="Picture 3" descr=""/>
            <p:cNvPicPr/>
            <p:nvPr/>
          </p:nvPicPr>
          <p:blipFill>
            <a:blip r:embed="rId1"/>
            <a:stretch/>
          </p:blipFill>
          <p:spPr>
            <a:xfrm>
              <a:off x="6248520" y="2057400"/>
              <a:ext cx="2584800" cy="18658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44" name="TextBox 24"/>
            <p:cNvSpPr/>
            <p:nvPr/>
          </p:nvSpPr>
          <p:spPr>
            <a:xfrm>
              <a:off x="6629400" y="3837960"/>
              <a:ext cx="2285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Improvement in slew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8"/>
          <p:cNvGrpSpPr/>
          <p:nvPr/>
        </p:nvGrpSpPr>
        <p:grpSpPr>
          <a:xfrm>
            <a:off x="6155640" y="4267080"/>
            <a:ext cx="2683080" cy="2542320"/>
            <a:chOff x="6155640" y="4267080"/>
            <a:chExt cx="2683080" cy="2542320"/>
          </a:xfrm>
        </p:grpSpPr>
        <p:sp>
          <p:nvSpPr>
            <p:cNvPr id="346" name="TextBox 25"/>
            <p:cNvSpPr/>
            <p:nvPr/>
          </p:nvSpPr>
          <p:spPr>
            <a:xfrm>
              <a:off x="6536880" y="6172200"/>
              <a:ext cx="21333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Overall improvement in energy consumption for clock network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6" descr=""/>
            <p:cNvPicPr/>
            <p:nvPr/>
          </p:nvPicPr>
          <p:blipFill>
            <a:blip r:embed="rId2"/>
            <a:stretch/>
          </p:blipFill>
          <p:spPr>
            <a:xfrm>
              <a:off x="6155640" y="4267080"/>
              <a:ext cx="2683080" cy="190476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48" name="Group 31"/>
          <p:cNvGrpSpPr/>
          <p:nvPr/>
        </p:nvGrpSpPr>
        <p:grpSpPr>
          <a:xfrm>
            <a:off x="5257800" y="457200"/>
            <a:ext cx="3733560" cy="1519200"/>
            <a:chOff x="5257800" y="457200"/>
            <a:chExt cx="3733560" cy="1519200"/>
          </a:xfrm>
        </p:grpSpPr>
        <p:pic>
          <p:nvPicPr>
            <p:cNvPr id="349" name="Picture 8" descr=""/>
            <p:cNvPicPr/>
            <p:nvPr/>
          </p:nvPicPr>
          <p:blipFill>
            <a:blip r:embed="rId3"/>
            <a:stretch/>
          </p:blipFill>
          <p:spPr>
            <a:xfrm>
              <a:off x="5257800" y="457200"/>
              <a:ext cx="3733560" cy="134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50" name="TextBox 30"/>
            <p:cNvSpPr/>
            <p:nvPr/>
          </p:nvSpPr>
          <p:spPr>
            <a:xfrm>
              <a:off x="6248520" y="1704240"/>
              <a:ext cx="2285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Improvement in skew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Slide Number Placeholder 1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73DDB12F-3377-4C4D-967F-D0515B41661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4FC0D903-8317-4D51-A908-8F99CDB2D4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lock Network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nventional tree scrutiniz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uffers perform poorly, do we really need them?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ffers NOT optimal in face of process variation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se study to compare buffered vs. non-buffered tre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57" name="Group 20"/>
          <p:cNvGrpSpPr/>
          <p:nvPr/>
        </p:nvGrpSpPr>
        <p:grpSpPr>
          <a:xfrm>
            <a:off x="5257800" y="982440"/>
            <a:ext cx="3664440" cy="2139120"/>
            <a:chOff x="5257800" y="982440"/>
            <a:chExt cx="3664440" cy="2139120"/>
          </a:xfrm>
        </p:grpSpPr>
        <p:pic>
          <p:nvPicPr>
            <p:cNvPr id="358" name="Picture 2" descr=""/>
            <p:cNvPicPr/>
            <p:nvPr/>
          </p:nvPicPr>
          <p:blipFill>
            <a:blip r:embed="rId1"/>
            <a:stretch/>
          </p:blipFill>
          <p:spPr>
            <a:xfrm>
              <a:off x="7315200" y="982440"/>
              <a:ext cx="1607040" cy="17762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59" name="Picture 3" descr=""/>
            <p:cNvPicPr/>
            <p:nvPr/>
          </p:nvPicPr>
          <p:blipFill>
            <a:blip r:embed="rId2"/>
            <a:stretch/>
          </p:blipFill>
          <p:spPr>
            <a:xfrm>
              <a:off x="5257800" y="990720"/>
              <a:ext cx="1676160" cy="1746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0" name="TextBox 13"/>
            <p:cNvSpPr/>
            <p:nvPr/>
          </p:nvSpPr>
          <p:spPr>
            <a:xfrm>
              <a:off x="6934320" y="1688040"/>
              <a:ext cx="456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4"/>
            <p:cNvSpPr/>
            <p:nvPr/>
          </p:nvSpPr>
          <p:spPr>
            <a:xfrm>
              <a:off x="5638680" y="2666880"/>
              <a:ext cx="297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Buffered vs. non-buffered trees to be compared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5105520" y="3733920"/>
            <a:ext cx="3962160" cy="2507400"/>
            <a:chOff x="5105520" y="3733920"/>
            <a:chExt cx="3962160" cy="2507400"/>
          </a:xfrm>
        </p:grpSpPr>
        <p:pic>
          <p:nvPicPr>
            <p:cNvPr id="363" name="Picture 4" descr=""/>
            <p:cNvPicPr/>
            <p:nvPr/>
          </p:nvPicPr>
          <p:blipFill>
            <a:blip r:embed="rId3"/>
            <a:stretch/>
          </p:blipFill>
          <p:spPr>
            <a:xfrm>
              <a:off x="5638680" y="3733920"/>
              <a:ext cx="2916000" cy="21333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4" name="TextBox 15"/>
            <p:cNvSpPr/>
            <p:nvPr/>
          </p:nvSpPr>
          <p:spPr>
            <a:xfrm>
              <a:off x="5105520" y="57866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Energy overhead incurred under same nominal skew constraint for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9"/>
          <p:cNvGrpSpPr/>
          <p:nvPr/>
        </p:nvGrpSpPr>
        <p:grpSpPr>
          <a:xfrm>
            <a:off x="152280" y="3809880"/>
            <a:ext cx="5333760" cy="2463840"/>
            <a:chOff x="152280" y="3809880"/>
            <a:chExt cx="5333760" cy="2463840"/>
          </a:xfrm>
        </p:grpSpPr>
        <p:pic>
          <p:nvPicPr>
            <p:cNvPr id="366" name="Picture 5" descr=""/>
            <p:cNvPicPr/>
            <p:nvPr/>
          </p:nvPicPr>
          <p:blipFill>
            <a:blip r:embed="rId4"/>
            <a:stretch/>
          </p:blipFill>
          <p:spPr>
            <a:xfrm>
              <a:off x="152280" y="3809880"/>
              <a:ext cx="2607120" cy="19620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5"/>
            <a:stretch/>
          </p:blipFill>
          <p:spPr>
            <a:xfrm>
              <a:off x="2819520" y="3809880"/>
              <a:ext cx="2666520" cy="1956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8" name="TextBox 16"/>
            <p:cNvSpPr/>
            <p:nvPr/>
          </p:nvSpPr>
          <p:spPr>
            <a:xfrm>
              <a:off x="914400" y="58190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and slew improvement with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Slide Number Placeholder 17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2E1282C4-BAD9-483A-AD59-B7D90DB9FE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lock Network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9219960" cy="28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easurements show improvement in skew, skew variation, and slew variation without much overhea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 orders of magnitude less sk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28% less slew variati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% power overhea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circuit siz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constrai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72" name="Group 18"/>
          <p:cNvGrpSpPr/>
          <p:nvPr/>
        </p:nvGrpSpPr>
        <p:grpSpPr>
          <a:xfrm>
            <a:off x="152280" y="3809880"/>
            <a:ext cx="5333760" cy="2463840"/>
            <a:chOff x="152280" y="3809880"/>
            <a:chExt cx="5333760" cy="2463840"/>
          </a:xfrm>
        </p:grpSpPr>
        <p:pic>
          <p:nvPicPr>
            <p:cNvPr id="373" name="Picture 5" descr=""/>
            <p:cNvPicPr/>
            <p:nvPr/>
          </p:nvPicPr>
          <p:blipFill>
            <a:blip r:embed="rId1"/>
            <a:stretch/>
          </p:blipFill>
          <p:spPr>
            <a:xfrm>
              <a:off x="152280" y="3809880"/>
              <a:ext cx="2607120" cy="19620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74" name="Picture 6" descr=""/>
            <p:cNvPicPr/>
            <p:nvPr/>
          </p:nvPicPr>
          <p:blipFill>
            <a:blip r:embed="rId2"/>
            <a:stretch/>
          </p:blipFill>
          <p:spPr>
            <a:xfrm>
              <a:off x="2819520" y="3809880"/>
              <a:ext cx="2666520" cy="1956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75" name="TextBox 21"/>
            <p:cNvSpPr/>
            <p:nvPr/>
          </p:nvSpPr>
          <p:spPr>
            <a:xfrm>
              <a:off x="914400" y="58190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and slew improvement with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Slide Number Placeholder 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3775067C-3B72-4B59-BD12-71ADBC2BE69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F3396147-CD1C-44DE-ADF6-9994DB3E3B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30556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 universal solu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cope and limitations to individual metho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Aware Clock Tree Design for Sub-threshold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Good for slew control by desig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Universal for all clock network topologie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Always saves something in power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Does not addr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Should be used as an auxiliary method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lock Buffer Design for Sub-threshold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Fantastic performance with regards to slew and skew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Given range of supply voltage that it addresses proc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Ridiculous increase in power/energy for single buffer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Thus restricted to certain frequencies and design size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ock Network Design for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Method address slew, skew, proc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Power/energy overhead fluctuates with design characteristic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hat does it all mean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Imminently, no universal solutio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We should carefully observe the characteristics of our design, and design accordingly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Example: Combine papers [3] and [4]?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B5C09DF8-96FD-4E5F-9702-195FAE0841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3671CA8A-EFB4-40C9-9098-EF7519843E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1] B. H. Calhoun., A. Wang, N. Verma, A. P. Chandrakasan, "Sub-threshold Design: The Challenges of Minimizing Circuit Energy," International Symposium on Low Power Electronics and Design (ISLPED), pp. 366-368, October 2006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2] J. R. Tolbert, X. Zhao, S. K. Lim, S. Mukhopadhyay, “ Slew-Aware Clock Tree Design for Reliable Subthreshold Circuits”, ISLPED, August 2009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3] Jonggab Kil, et al, “A High-Speed Variation-Tolerant Interconnect Technique for Sub-threshold Circuits Using Capacitive Boosting,” ISLPED, 2006, pp. 67-7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4] Mingoo Seok, D. Blaauw, D. Sylvester, "Clock Network Design for Ultra-Low Power Applications,"International Symposium on Low Power Electronics and Design, Aug, 2010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DE4C3348-3FBD-4803-8589-E5E10810C7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352680" y="2819520"/>
            <a:ext cx="2437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Perpetu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F8B18B24-0300-4ED0-8C2A-6EC3954A4D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27C90178-E5B4-4EDC-8624-25631B9B9C1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Sub-threshold Oper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800240" cy="54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oltage scaling leads to quadratic savings i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dy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y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0-1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eff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caling is pushed into sub-threshold(sub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reg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ransistor devices not “on”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t still operationa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crificing performance(speed) for low power/ener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ub-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characterized by weak drive and long dela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nd great savings in dynamic power/energ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de application sp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obile electronic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nvironmental/body sensor nod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02" name="Picture 3" descr="mobile_f006_MED.jpg"/>
          <p:cNvPicPr/>
          <p:nvPr/>
        </p:nvPicPr>
        <p:blipFill>
          <a:blip r:embed="rId1"/>
          <a:stretch/>
        </p:blipFill>
        <p:spPr>
          <a:xfrm>
            <a:off x="4800600" y="17524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pr-dfi-2a.jpg"/>
          <p:cNvPicPr/>
          <p:nvPr/>
        </p:nvPicPr>
        <p:blipFill>
          <a:blip r:embed="rId2"/>
          <a:stretch/>
        </p:blipFill>
        <p:spPr>
          <a:xfrm>
            <a:off x="6324480" y="1371600"/>
            <a:ext cx="1371240" cy="84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roduct-200871111275-s.jpg"/>
          <p:cNvPicPr/>
          <p:nvPr/>
        </p:nvPicPr>
        <p:blipFill>
          <a:blip r:embed="rId3"/>
          <a:stretch/>
        </p:blipFill>
        <p:spPr>
          <a:xfrm>
            <a:off x="7924680" y="2362320"/>
            <a:ext cx="1023120" cy="866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rf320.jpg"/>
          <p:cNvPicPr/>
          <p:nvPr/>
        </p:nvPicPr>
        <p:blipFill>
          <a:blip r:embed="rId4"/>
          <a:stretch/>
        </p:blipFill>
        <p:spPr>
          <a:xfrm>
            <a:off x="4800600" y="2971800"/>
            <a:ext cx="1294920" cy="101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X7U.jpg"/>
          <p:cNvPicPr/>
          <p:nvPr/>
        </p:nvPicPr>
        <p:blipFill>
          <a:blip r:embed="rId5"/>
          <a:stretch/>
        </p:blipFill>
        <p:spPr>
          <a:xfrm>
            <a:off x="7696080" y="3809880"/>
            <a:ext cx="1240560" cy="173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TEMPO_2_Laptop.png"/>
          <p:cNvPicPr/>
          <p:nvPr/>
        </p:nvPicPr>
        <p:blipFill>
          <a:blip r:embed="rId6"/>
          <a:stretch/>
        </p:blipFill>
        <p:spPr>
          <a:xfrm>
            <a:off x="4800600" y="4495680"/>
            <a:ext cx="2295000" cy="970920"/>
          </a:xfrm>
          <a:prstGeom prst="rect">
            <a:avLst/>
          </a:prstGeom>
          <a:ln w="0">
            <a:noFill/>
          </a:ln>
        </p:spPr>
      </p:pic>
      <p:sp>
        <p:nvSpPr>
          <p:cNvPr id="108" name="Cloud 11"/>
          <p:cNvSpPr/>
          <p:nvPr/>
        </p:nvSpPr>
        <p:spPr>
          <a:xfrm>
            <a:off x="6248520" y="2666880"/>
            <a:ext cx="1599840" cy="1142640"/>
          </a:xfrm>
          <a:prstGeom prst="cloud">
            <a:avLst/>
          </a:prstGeom>
          <a:solidFill>
            <a:schemeClr val="accent3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Sub-V</a:t>
            </a:r>
            <a:r>
              <a:rPr b="0" lang="en-US" sz="1800" spc="-1" strike="noStrike" baseline="-25000">
                <a:solidFill>
                  <a:schemeClr val="lt1"/>
                </a:solidFill>
                <a:latin typeface="Perpetu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55A1706C-10D5-4869-A57D-16626194CE6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4578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ventionally, H-trees provi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ptimal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10%-90%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transition time in clock signal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ptimal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k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phase difference between clock signal at difference register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lew and skew affect timing constrai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1"/>
                </a:solidFill>
                <a:latin typeface="Perpetua"/>
              </a:rPr>
              <a:t>CAUSES TIMING VIOL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Clock Networks for Digital Circu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152280" y="3352680"/>
            <a:ext cx="837720" cy="990360"/>
            <a:chOff x="152280" y="3352680"/>
            <a:chExt cx="837720" cy="990360"/>
          </a:xfrm>
        </p:grpSpPr>
        <p:sp>
          <p:nvSpPr>
            <p:cNvPr id="113" name="Rectangle 4"/>
            <p:cNvSpPr/>
            <p:nvPr/>
          </p:nvSpPr>
          <p:spPr>
            <a:xfrm>
              <a:off x="152280" y="3352680"/>
              <a:ext cx="837720" cy="9903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D    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6"/>
            <p:cNvSpPr/>
            <p:nvPr/>
          </p:nvSpPr>
          <p:spPr>
            <a:xfrm>
              <a:off x="457200" y="4191120"/>
              <a:ext cx="228240" cy="151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Perpetua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2666880" y="3352680"/>
            <a:ext cx="837720" cy="990360"/>
            <a:chOff x="2666880" y="3352680"/>
            <a:chExt cx="837720" cy="990360"/>
          </a:xfrm>
        </p:grpSpPr>
        <p:sp>
          <p:nvSpPr>
            <p:cNvPr id="116" name="Rectangle 9"/>
            <p:cNvSpPr/>
            <p:nvPr/>
          </p:nvSpPr>
          <p:spPr>
            <a:xfrm>
              <a:off x="2666880" y="3352680"/>
              <a:ext cx="837720" cy="9903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D    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Isosceles Triangle 10"/>
            <p:cNvSpPr/>
            <p:nvPr/>
          </p:nvSpPr>
          <p:spPr>
            <a:xfrm>
              <a:off x="2971800" y="4191120"/>
              <a:ext cx="228240" cy="151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Perpetua"/>
              </a:endParaRPr>
            </a:p>
          </p:txBody>
        </p:sp>
      </p:grpSp>
      <p:sp>
        <p:nvSpPr>
          <p:cNvPr id="118" name="Cloud 11"/>
          <p:cNvSpPr/>
          <p:nvPr/>
        </p:nvSpPr>
        <p:spPr>
          <a:xfrm>
            <a:off x="1219320" y="3657600"/>
            <a:ext cx="1218960" cy="761760"/>
          </a:xfrm>
          <a:prstGeom prst="cloud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Perpetu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Connector 13"/>
          <p:cNvCxnSpPr/>
          <p:nvPr/>
        </p:nvCxnSpPr>
        <p:spPr>
          <a:xfrm>
            <a:off x="990360" y="4114800"/>
            <a:ext cx="305280" cy="3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0" name="Straight Connector 16"/>
          <p:cNvCxnSpPr/>
          <p:nvPr/>
        </p:nvCxnSpPr>
        <p:spPr>
          <a:xfrm>
            <a:off x="2438280" y="4114800"/>
            <a:ext cx="228960" cy="3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1" name="Straight Arrow Connector 21"/>
          <p:cNvCxnSpPr/>
          <p:nvPr/>
        </p:nvCxnSpPr>
        <p:spPr>
          <a:xfrm flipV="1">
            <a:off x="607680" y="4343400"/>
            <a:ext cx="2160" cy="38124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2" name="Straight Arrow Connector 26"/>
          <p:cNvCxnSpPr/>
          <p:nvPr/>
        </p:nvCxnSpPr>
        <p:spPr>
          <a:xfrm flipV="1">
            <a:off x="3124080" y="4343400"/>
            <a:ext cx="1800" cy="38124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3" name="Straight Connector 28"/>
          <p:cNvCxnSpPr/>
          <p:nvPr/>
        </p:nvCxnSpPr>
        <p:spPr>
          <a:xfrm>
            <a:off x="609480" y="4724280"/>
            <a:ext cx="251496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124" name="Straight Connector 30"/>
          <p:cNvCxnSpPr/>
          <p:nvPr/>
        </p:nvCxnSpPr>
        <p:spPr>
          <a:xfrm>
            <a:off x="1828800" y="4724280"/>
            <a:ext cx="360" cy="2289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25" name="TextBox 31"/>
          <p:cNvSpPr/>
          <p:nvPr/>
        </p:nvSpPr>
        <p:spPr>
          <a:xfrm>
            <a:off x="685800" y="47242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2590920" y="47242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6"/>
          <p:cNvGrpSpPr/>
          <p:nvPr/>
        </p:nvGrpSpPr>
        <p:grpSpPr>
          <a:xfrm>
            <a:off x="304560" y="5181480"/>
            <a:ext cx="2057400" cy="304920"/>
            <a:chOff x="304560" y="5181480"/>
            <a:chExt cx="2057400" cy="304920"/>
          </a:xfrm>
        </p:grpSpPr>
        <p:grpSp>
          <p:nvGrpSpPr>
            <p:cNvPr id="128" name="Group 42"/>
            <p:cNvGrpSpPr/>
            <p:nvPr/>
          </p:nvGrpSpPr>
          <p:grpSpPr>
            <a:xfrm>
              <a:off x="304560" y="5181480"/>
              <a:ext cx="1067040" cy="304920"/>
              <a:chOff x="304560" y="5181480"/>
              <a:chExt cx="1067040" cy="304920"/>
            </a:xfrm>
          </p:grpSpPr>
          <p:cxnSp>
            <p:nvCxnSpPr>
              <p:cNvPr id="129" name="Elbow Connector 33"/>
              <p:cNvCxnSpPr/>
              <p:nvPr/>
            </p:nvCxnSpPr>
            <p:spPr>
              <a:xfrm flipV="1">
                <a:off x="304560" y="5181480"/>
                <a:ext cx="61020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30" name="Elbow Connector 37"/>
              <p:cNvCxnSpPr/>
              <p:nvPr/>
            </p:nvCxnSpPr>
            <p:spPr>
              <a:xfrm rot="10800000">
                <a:off x="838080" y="5181120"/>
                <a:ext cx="53388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131" name="Group 43"/>
            <p:cNvGrpSpPr/>
            <p:nvPr/>
          </p:nvGrpSpPr>
          <p:grpSpPr>
            <a:xfrm>
              <a:off x="1295280" y="5181480"/>
              <a:ext cx="1066680" cy="304920"/>
              <a:chOff x="1295280" y="5181480"/>
              <a:chExt cx="1066680" cy="304920"/>
            </a:xfrm>
          </p:grpSpPr>
          <p:cxnSp>
            <p:nvCxnSpPr>
              <p:cNvPr id="132" name="Elbow Connector 44"/>
              <p:cNvCxnSpPr/>
              <p:nvPr/>
            </p:nvCxnSpPr>
            <p:spPr>
              <a:xfrm flipV="1">
                <a:off x="1295280" y="5181480"/>
                <a:ext cx="60984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33" name="Elbow Connector 45"/>
              <p:cNvCxnSpPr/>
              <p:nvPr/>
            </p:nvCxnSpPr>
            <p:spPr>
              <a:xfrm rot="10800000">
                <a:off x="1828440" y="5181120"/>
                <a:ext cx="53352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134" name="Group 42"/>
          <p:cNvGrpSpPr/>
          <p:nvPr/>
        </p:nvGrpSpPr>
        <p:grpSpPr>
          <a:xfrm>
            <a:off x="2286000" y="5181480"/>
            <a:ext cx="1066680" cy="304920"/>
            <a:chOff x="2286000" y="5181480"/>
            <a:chExt cx="1066680" cy="304920"/>
          </a:xfrm>
        </p:grpSpPr>
        <p:cxnSp>
          <p:nvCxnSpPr>
            <p:cNvPr id="135" name="Elbow Connector 52"/>
            <p:cNvCxnSpPr/>
            <p:nvPr/>
          </p:nvCxnSpPr>
          <p:spPr>
            <a:xfrm flipV="1">
              <a:off x="2286000" y="5181480"/>
              <a:ext cx="60984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36" name="Elbow Connector 53"/>
            <p:cNvCxnSpPr/>
            <p:nvPr/>
          </p:nvCxnSpPr>
          <p:spPr>
            <a:xfrm rot="10800000">
              <a:off x="2819160" y="5181120"/>
              <a:ext cx="53388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grpSp>
        <p:nvGrpSpPr>
          <p:cNvPr id="137" name="Group 54"/>
          <p:cNvGrpSpPr/>
          <p:nvPr/>
        </p:nvGrpSpPr>
        <p:grpSpPr>
          <a:xfrm>
            <a:off x="304560" y="5638680"/>
            <a:ext cx="2057400" cy="304920"/>
            <a:chOff x="304560" y="5638680"/>
            <a:chExt cx="2057400" cy="304920"/>
          </a:xfrm>
        </p:grpSpPr>
        <p:grpSp>
          <p:nvGrpSpPr>
            <p:cNvPr id="138" name="Group 42"/>
            <p:cNvGrpSpPr/>
            <p:nvPr/>
          </p:nvGrpSpPr>
          <p:grpSpPr>
            <a:xfrm>
              <a:off x="304560" y="5638680"/>
              <a:ext cx="1067040" cy="304920"/>
              <a:chOff x="304560" y="5638680"/>
              <a:chExt cx="1067040" cy="304920"/>
            </a:xfrm>
          </p:grpSpPr>
          <p:cxnSp>
            <p:nvCxnSpPr>
              <p:cNvPr id="139" name="Elbow Connector 59"/>
              <p:cNvCxnSpPr/>
              <p:nvPr/>
            </p:nvCxnSpPr>
            <p:spPr>
              <a:xfrm flipV="1">
                <a:off x="304560" y="5638680"/>
                <a:ext cx="61020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40" name="Elbow Connector 60"/>
              <p:cNvCxnSpPr/>
              <p:nvPr/>
            </p:nvCxnSpPr>
            <p:spPr>
              <a:xfrm rot="10800000">
                <a:off x="838080" y="5638320"/>
                <a:ext cx="53388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141" name="Group 43"/>
            <p:cNvGrpSpPr/>
            <p:nvPr/>
          </p:nvGrpSpPr>
          <p:grpSpPr>
            <a:xfrm>
              <a:off x="1295280" y="5638680"/>
              <a:ext cx="1066680" cy="304920"/>
              <a:chOff x="1295280" y="5638680"/>
              <a:chExt cx="1066680" cy="304920"/>
            </a:xfrm>
          </p:grpSpPr>
          <p:cxnSp>
            <p:nvCxnSpPr>
              <p:cNvPr id="142" name="Elbow Connector 57"/>
              <p:cNvCxnSpPr/>
              <p:nvPr/>
            </p:nvCxnSpPr>
            <p:spPr>
              <a:xfrm flipV="1">
                <a:off x="1295280" y="5638680"/>
                <a:ext cx="60984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43" name="Elbow Connector 58"/>
              <p:cNvCxnSpPr/>
              <p:nvPr/>
            </p:nvCxnSpPr>
            <p:spPr>
              <a:xfrm rot="10800000">
                <a:off x="1828440" y="5638320"/>
                <a:ext cx="53352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144" name="Group 42"/>
          <p:cNvGrpSpPr/>
          <p:nvPr/>
        </p:nvGrpSpPr>
        <p:grpSpPr>
          <a:xfrm>
            <a:off x="2286000" y="5638680"/>
            <a:ext cx="1066680" cy="304920"/>
            <a:chOff x="2286000" y="5638680"/>
            <a:chExt cx="1066680" cy="304920"/>
          </a:xfrm>
        </p:grpSpPr>
        <p:cxnSp>
          <p:nvCxnSpPr>
            <p:cNvPr id="145" name="Elbow Connector 66"/>
            <p:cNvCxnSpPr/>
            <p:nvPr/>
          </p:nvCxnSpPr>
          <p:spPr>
            <a:xfrm flipV="1">
              <a:off x="2286000" y="5638680"/>
              <a:ext cx="60984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46" name="Elbow Connector 67"/>
            <p:cNvCxnSpPr/>
            <p:nvPr/>
          </p:nvCxnSpPr>
          <p:spPr>
            <a:xfrm rot="10800000">
              <a:off x="2819160" y="5638320"/>
              <a:ext cx="53388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sp>
        <p:nvSpPr>
          <p:cNvPr id="147" name="TextBox 69"/>
          <p:cNvSpPr/>
          <p:nvPr/>
        </p:nvSpPr>
        <p:spPr>
          <a:xfrm>
            <a:off x="0" y="51814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0"/>
          <p:cNvSpPr/>
          <p:nvPr/>
        </p:nvSpPr>
        <p:spPr>
          <a:xfrm>
            <a:off x="0" y="56386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1"/>
          <p:cNvSpPr/>
          <p:nvPr/>
        </p:nvSpPr>
        <p:spPr>
          <a:xfrm>
            <a:off x="1143000" y="6019920"/>
            <a:ext cx="1599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Ideal 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2300400" cy="2133360"/>
          </a:xfrm>
          <a:prstGeom prst="rect">
            <a:avLst/>
          </a:prstGeom>
          <a:ln w="9525">
            <a:noFill/>
          </a:ln>
        </p:spPr>
      </p:pic>
      <p:sp>
        <p:nvSpPr>
          <p:cNvPr id="151" name="TextBox 79"/>
          <p:cNvSpPr/>
          <p:nvPr/>
        </p:nvSpPr>
        <p:spPr>
          <a:xfrm>
            <a:off x="3962520" y="6019920"/>
            <a:ext cx="159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xample H-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2"/>
          <p:cNvGrpSpPr/>
          <p:nvPr/>
        </p:nvGrpSpPr>
        <p:grpSpPr>
          <a:xfrm>
            <a:off x="6248160" y="3809880"/>
            <a:ext cx="2362320" cy="538200"/>
            <a:chOff x="6248160" y="3809880"/>
            <a:chExt cx="2362320" cy="538200"/>
          </a:xfrm>
        </p:grpSpPr>
        <p:grpSp>
          <p:nvGrpSpPr>
            <p:cNvPr id="153" name="Group 111"/>
            <p:cNvGrpSpPr/>
            <p:nvPr/>
          </p:nvGrpSpPr>
          <p:grpSpPr>
            <a:xfrm>
              <a:off x="6248160" y="3809880"/>
              <a:ext cx="2286000" cy="538200"/>
              <a:chOff x="6248160" y="3809880"/>
              <a:chExt cx="2286000" cy="538200"/>
            </a:xfrm>
          </p:grpSpPr>
          <p:grpSp>
            <p:nvGrpSpPr>
              <p:cNvPr id="154" name="Group 97"/>
              <p:cNvGrpSpPr/>
              <p:nvPr/>
            </p:nvGrpSpPr>
            <p:grpSpPr>
              <a:xfrm>
                <a:off x="6248160" y="3809880"/>
                <a:ext cx="1219320" cy="538200"/>
                <a:chOff x="6248160" y="3809880"/>
                <a:chExt cx="1219320" cy="538200"/>
              </a:xfrm>
            </p:grpSpPr>
            <p:grpSp>
              <p:nvGrpSpPr>
                <p:cNvPr id="155" name="Group 90"/>
                <p:cNvGrpSpPr/>
                <p:nvPr/>
              </p:nvGrpSpPr>
              <p:grpSpPr>
                <a:xfrm>
                  <a:off x="6248160" y="3809880"/>
                  <a:ext cx="777600" cy="538200"/>
                  <a:chOff x="6248160" y="3809880"/>
                  <a:chExt cx="777600" cy="538200"/>
                </a:xfrm>
              </p:grpSpPr>
              <p:grpSp>
                <p:nvGrpSpPr>
                  <p:cNvPr id="156" name="Group 86"/>
                  <p:cNvGrpSpPr/>
                  <p:nvPr/>
                </p:nvGrpSpPr>
                <p:grpSpPr>
                  <a:xfrm>
                    <a:off x="6367320" y="3809880"/>
                    <a:ext cx="535320" cy="538200"/>
                    <a:chOff x="6367320" y="3809880"/>
                    <a:chExt cx="535320" cy="538200"/>
                  </a:xfrm>
                </p:grpSpPr>
                <p:sp>
                  <p:nvSpPr>
                    <p:cNvPr id="157" name="Freeform 84"/>
                    <p:cNvSpPr/>
                    <p:nvPr/>
                  </p:nvSpPr>
                  <p:spPr>
                    <a:xfrm>
                      <a:off x="6629760" y="380988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58" name="Freeform 85"/>
                    <p:cNvSpPr/>
                    <p:nvPr/>
                  </p:nvSpPr>
                  <p:spPr>
                    <a:xfrm rot="10583400">
                      <a:off x="6375600" y="40543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59" name="Straight Connector 88"/>
                  <p:cNvCxnSpPr/>
                  <p:nvPr/>
                </p:nvCxnSpPr>
                <p:spPr>
                  <a:xfrm flipH="1" flipV="1">
                    <a:off x="6248160" y="434340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60" name="Straight Connector 89"/>
                  <p:cNvCxnSpPr/>
                  <p:nvPr/>
                </p:nvCxnSpPr>
                <p:spPr>
                  <a:xfrm flipH="1" flipV="1">
                    <a:off x="6893640" y="38098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61" name="Group 91"/>
                <p:cNvGrpSpPr/>
                <p:nvPr/>
              </p:nvGrpSpPr>
              <p:grpSpPr>
                <a:xfrm>
                  <a:off x="6831360" y="3809880"/>
                  <a:ext cx="636120" cy="537120"/>
                  <a:chOff x="6831360" y="3809880"/>
                  <a:chExt cx="636120" cy="537120"/>
                </a:xfrm>
              </p:grpSpPr>
              <p:grpSp>
                <p:nvGrpSpPr>
                  <p:cNvPr id="162" name="Group 86"/>
                  <p:cNvGrpSpPr/>
                  <p:nvPr/>
                </p:nvGrpSpPr>
                <p:grpSpPr>
                  <a:xfrm>
                    <a:off x="6931800" y="3809880"/>
                    <a:ext cx="439920" cy="536400"/>
                    <a:chOff x="6931800" y="3809880"/>
                    <a:chExt cx="439920" cy="536400"/>
                  </a:xfrm>
                </p:grpSpPr>
                <p:sp>
                  <p:nvSpPr>
                    <p:cNvPr id="163" name="Freeform 95"/>
                    <p:cNvSpPr/>
                    <p:nvPr/>
                  </p:nvSpPr>
                  <p:spPr>
                    <a:xfrm flipH="1">
                      <a:off x="6931800" y="380988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64" name="Freeform 96"/>
                    <p:cNvSpPr/>
                    <p:nvPr/>
                  </p:nvSpPr>
                  <p:spPr>
                    <a:xfrm flipH="1" rot="11016600">
                      <a:off x="7139160" y="40543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65" name="Straight Connector 93"/>
                  <p:cNvCxnSpPr/>
                  <p:nvPr/>
                </p:nvCxnSpPr>
                <p:spPr>
                  <a:xfrm flipV="1">
                    <a:off x="7359480" y="434340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66" name="Straight Connector 94"/>
                  <p:cNvCxnSpPr/>
                  <p:nvPr/>
                </p:nvCxnSpPr>
                <p:spPr>
                  <a:xfrm flipV="1">
                    <a:off x="6831360" y="380988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  <p:grpSp>
            <p:nvGrpSpPr>
              <p:cNvPr id="167" name="Group 98"/>
              <p:cNvGrpSpPr/>
              <p:nvPr/>
            </p:nvGrpSpPr>
            <p:grpSpPr>
              <a:xfrm>
                <a:off x="7315200" y="3809880"/>
                <a:ext cx="1218960" cy="538200"/>
                <a:chOff x="7315200" y="3809880"/>
                <a:chExt cx="1218960" cy="538200"/>
              </a:xfrm>
            </p:grpSpPr>
            <p:grpSp>
              <p:nvGrpSpPr>
                <p:cNvPr id="168" name="Group 90"/>
                <p:cNvGrpSpPr/>
                <p:nvPr/>
              </p:nvGrpSpPr>
              <p:grpSpPr>
                <a:xfrm>
                  <a:off x="7315200" y="3809880"/>
                  <a:ext cx="777240" cy="538200"/>
                  <a:chOff x="7315200" y="3809880"/>
                  <a:chExt cx="777240" cy="538200"/>
                </a:xfrm>
              </p:grpSpPr>
              <p:grpSp>
                <p:nvGrpSpPr>
                  <p:cNvPr id="169" name="Group 86"/>
                  <p:cNvGrpSpPr/>
                  <p:nvPr/>
                </p:nvGrpSpPr>
                <p:grpSpPr>
                  <a:xfrm>
                    <a:off x="7434360" y="3809880"/>
                    <a:ext cx="535320" cy="538200"/>
                    <a:chOff x="7434360" y="3809880"/>
                    <a:chExt cx="535320" cy="538200"/>
                  </a:xfrm>
                </p:grpSpPr>
                <p:sp>
                  <p:nvSpPr>
                    <p:cNvPr id="170" name="Freeform 109"/>
                    <p:cNvSpPr/>
                    <p:nvPr/>
                  </p:nvSpPr>
                  <p:spPr>
                    <a:xfrm>
                      <a:off x="7696800" y="380988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71" name="Freeform 110"/>
                    <p:cNvSpPr/>
                    <p:nvPr/>
                  </p:nvSpPr>
                  <p:spPr>
                    <a:xfrm rot="10583400">
                      <a:off x="7442640" y="40543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72" name="Straight Connector 107"/>
                  <p:cNvCxnSpPr/>
                  <p:nvPr/>
                </p:nvCxnSpPr>
                <p:spPr>
                  <a:xfrm flipH="1" flipV="1">
                    <a:off x="7315200" y="434340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3" name="Straight Connector 108"/>
                  <p:cNvCxnSpPr/>
                  <p:nvPr/>
                </p:nvCxnSpPr>
                <p:spPr>
                  <a:xfrm flipH="1" flipV="1">
                    <a:off x="7960320" y="38098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74" name="Group 91"/>
                <p:cNvGrpSpPr/>
                <p:nvPr/>
              </p:nvGrpSpPr>
              <p:grpSpPr>
                <a:xfrm>
                  <a:off x="7898040" y="3809880"/>
                  <a:ext cx="636120" cy="537120"/>
                  <a:chOff x="7898040" y="3809880"/>
                  <a:chExt cx="636120" cy="537120"/>
                </a:xfrm>
              </p:grpSpPr>
              <p:grpSp>
                <p:nvGrpSpPr>
                  <p:cNvPr id="175" name="Group 86"/>
                  <p:cNvGrpSpPr/>
                  <p:nvPr/>
                </p:nvGrpSpPr>
                <p:grpSpPr>
                  <a:xfrm>
                    <a:off x="7998840" y="3809880"/>
                    <a:ext cx="439920" cy="536400"/>
                    <a:chOff x="7998840" y="3809880"/>
                    <a:chExt cx="439920" cy="536400"/>
                  </a:xfrm>
                </p:grpSpPr>
                <p:sp>
                  <p:nvSpPr>
                    <p:cNvPr id="176" name="Freeform 104"/>
                    <p:cNvSpPr/>
                    <p:nvPr/>
                  </p:nvSpPr>
                  <p:spPr>
                    <a:xfrm flipH="1">
                      <a:off x="7998840" y="380988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77" name="Freeform 105"/>
                    <p:cNvSpPr/>
                    <p:nvPr/>
                  </p:nvSpPr>
                  <p:spPr>
                    <a:xfrm flipH="1" rot="11016600">
                      <a:off x="8206200" y="40543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78" name="Straight Connector 102"/>
                  <p:cNvCxnSpPr/>
                  <p:nvPr/>
                </p:nvCxnSpPr>
                <p:spPr>
                  <a:xfrm flipV="1">
                    <a:off x="8426160" y="434340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9" name="Straight Connector 103"/>
                  <p:cNvCxnSpPr/>
                  <p:nvPr/>
                </p:nvCxnSpPr>
                <p:spPr>
                  <a:xfrm flipV="1">
                    <a:off x="7898040" y="3809880"/>
                    <a:ext cx="10872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cxnSp>
          <p:nvCxnSpPr>
            <p:cNvPr id="180" name="Straight Connector 140"/>
            <p:cNvCxnSpPr/>
            <p:nvPr/>
          </p:nvCxnSpPr>
          <p:spPr>
            <a:xfrm flipH="1">
              <a:off x="6248160" y="434340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81" name="Straight Connector 141"/>
            <p:cNvCxnSpPr/>
            <p:nvPr/>
          </p:nvCxnSpPr>
          <p:spPr>
            <a:xfrm flipH="1">
              <a:off x="8381880" y="434340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grpSp>
        <p:nvGrpSpPr>
          <p:cNvPr id="182" name="Group 143"/>
          <p:cNvGrpSpPr/>
          <p:nvPr/>
        </p:nvGrpSpPr>
        <p:grpSpPr>
          <a:xfrm>
            <a:off x="6553080" y="4876560"/>
            <a:ext cx="2362320" cy="538200"/>
            <a:chOff x="6553080" y="4876560"/>
            <a:chExt cx="2362320" cy="538200"/>
          </a:xfrm>
        </p:grpSpPr>
        <p:grpSp>
          <p:nvGrpSpPr>
            <p:cNvPr id="183" name="Group 111"/>
            <p:cNvGrpSpPr/>
            <p:nvPr/>
          </p:nvGrpSpPr>
          <p:grpSpPr>
            <a:xfrm>
              <a:off x="6553080" y="4876560"/>
              <a:ext cx="2286000" cy="538200"/>
              <a:chOff x="6553080" y="4876560"/>
              <a:chExt cx="2286000" cy="538200"/>
            </a:xfrm>
          </p:grpSpPr>
          <p:grpSp>
            <p:nvGrpSpPr>
              <p:cNvPr id="184" name="Group 97"/>
              <p:cNvGrpSpPr/>
              <p:nvPr/>
            </p:nvGrpSpPr>
            <p:grpSpPr>
              <a:xfrm>
                <a:off x="6553080" y="4876560"/>
                <a:ext cx="1219320" cy="538200"/>
                <a:chOff x="6553080" y="4876560"/>
                <a:chExt cx="1219320" cy="538200"/>
              </a:xfrm>
            </p:grpSpPr>
            <p:grpSp>
              <p:nvGrpSpPr>
                <p:cNvPr id="185" name="Group 90"/>
                <p:cNvGrpSpPr/>
                <p:nvPr/>
              </p:nvGrpSpPr>
              <p:grpSpPr>
                <a:xfrm>
                  <a:off x="6553080" y="4876560"/>
                  <a:ext cx="777240" cy="538200"/>
                  <a:chOff x="6553080" y="4876560"/>
                  <a:chExt cx="777240" cy="538200"/>
                </a:xfrm>
              </p:grpSpPr>
              <p:grpSp>
                <p:nvGrpSpPr>
                  <p:cNvPr id="186" name="Group 86"/>
                  <p:cNvGrpSpPr/>
                  <p:nvPr/>
                </p:nvGrpSpPr>
                <p:grpSpPr>
                  <a:xfrm>
                    <a:off x="6672240" y="4876920"/>
                    <a:ext cx="535320" cy="537840"/>
                    <a:chOff x="6672240" y="4876920"/>
                    <a:chExt cx="535320" cy="537840"/>
                  </a:xfrm>
                </p:grpSpPr>
                <p:sp>
                  <p:nvSpPr>
                    <p:cNvPr id="187" name="Freeform 171"/>
                    <p:cNvSpPr/>
                    <p:nvPr/>
                  </p:nvSpPr>
                  <p:spPr>
                    <a:xfrm>
                      <a:off x="6934680" y="48769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88" name="Freeform 172"/>
                    <p:cNvSpPr/>
                    <p:nvPr/>
                  </p:nvSpPr>
                  <p:spPr>
                    <a:xfrm rot="10583400">
                      <a:off x="6680520" y="512100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89" name="Straight Connector 169"/>
                  <p:cNvCxnSpPr/>
                  <p:nvPr/>
                </p:nvCxnSpPr>
                <p:spPr>
                  <a:xfrm flipH="1" flipV="1">
                    <a:off x="6553080" y="54100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90" name="Straight Connector 170"/>
                  <p:cNvCxnSpPr/>
                  <p:nvPr/>
                </p:nvCxnSpPr>
                <p:spPr>
                  <a:xfrm flipH="1" flipV="1">
                    <a:off x="7198200" y="487656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91" name="Group 91"/>
                <p:cNvGrpSpPr/>
                <p:nvPr/>
              </p:nvGrpSpPr>
              <p:grpSpPr>
                <a:xfrm>
                  <a:off x="7136280" y="4876560"/>
                  <a:ext cx="636120" cy="537120"/>
                  <a:chOff x="7136280" y="4876560"/>
                  <a:chExt cx="636120" cy="537120"/>
                </a:xfrm>
              </p:grpSpPr>
              <p:grpSp>
                <p:nvGrpSpPr>
                  <p:cNvPr id="192" name="Group 86"/>
                  <p:cNvGrpSpPr/>
                  <p:nvPr/>
                </p:nvGrpSpPr>
                <p:grpSpPr>
                  <a:xfrm>
                    <a:off x="7236720" y="4876920"/>
                    <a:ext cx="439920" cy="536400"/>
                    <a:chOff x="7236720" y="4876920"/>
                    <a:chExt cx="439920" cy="536400"/>
                  </a:xfrm>
                </p:grpSpPr>
                <p:sp>
                  <p:nvSpPr>
                    <p:cNvPr id="193" name="Freeform 166"/>
                    <p:cNvSpPr/>
                    <p:nvPr/>
                  </p:nvSpPr>
                  <p:spPr>
                    <a:xfrm flipH="1">
                      <a:off x="7236720" y="48769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94" name="Freeform 167"/>
                    <p:cNvSpPr/>
                    <p:nvPr/>
                  </p:nvSpPr>
                  <p:spPr>
                    <a:xfrm flipH="1" rot="11016600">
                      <a:off x="7444080" y="512136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95" name="Straight Connector 164"/>
                  <p:cNvCxnSpPr/>
                  <p:nvPr/>
                </p:nvCxnSpPr>
                <p:spPr>
                  <a:xfrm flipV="1">
                    <a:off x="7664040" y="5410080"/>
                    <a:ext cx="10872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96" name="Straight Connector 165"/>
                  <p:cNvCxnSpPr/>
                  <p:nvPr/>
                </p:nvCxnSpPr>
                <p:spPr>
                  <a:xfrm flipV="1">
                    <a:off x="7136280" y="487656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  <p:grpSp>
            <p:nvGrpSpPr>
              <p:cNvPr id="197" name="Group 98"/>
              <p:cNvGrpSpPr/>
              <p:nvPr/>
            </p:nvGrpSpPr>
            <p:grpSpPr>
              <a:xfrm>
                <a:off x="7619760" y="4876560"/>
                <a:ext cx="1219320" cy="538200"/>
                <a:chOff x="7619760" y="4876560"/>
                <a:chExt cx="1219320" cy="538200"/>
              </a:xfrm>
            </p:grpSpPr>
            <p:grpSp>
              <p:nvGrpSpPr>
                <p:cNvPr id="198" name="Group 90"/>
                <p:cNvGrpSpPr/>
                <p:nvPr/>
              </p:nvGrpSpPr>
              <p:grpSpPr>
                <a:xfrm>
                  <a:off x="7619760" y="4876560"/>
                  <a:ext cx="777600" cy="538200"/>
                  <a:chOff x="7619760" y="4876560"/>
                  <a:chExt cx="777600" cy="538200"/>
                </a:xfrm>
              </p:grpSpPr>
              <p:grpSp>
                <p:nvGrpSpPr>
                  <p:cNvPr id="199" name="Group 86"/>
                  <p:cNvGrpSpPr/>
                  <p:nvPr/>
                </p:nvGrpSpPr>
                <p:grpSpPr>
                  <a:xfrm>
                    <a:off x="7738920" y="4876920"/>
                    <a:ext cx="535320" cy="537840"/>
                    <a:chOff x="7738920" y="4876920"/>
                    <a:chExt cx="535320" cy="537840"/>
                  </a:xfrm>
                </p:grpSpPr>
                <p:sp>
                  <p:nvSpPr>
                    <p:cNvPr id="200" name="Freeform 159"/>
                    <p:cNvSpPr/>
                    <p:nvPr/>
                  </p:nvSpPr>
                  <p:spPr>
                    <a:xfrm>
                      <a:off x="8001360" y="48769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201" name="Freeform 160"/>
                    <p:cNvSpPr/>
                    <p:nvPr/>
                  </p:nvSpPr>
                  <p:spPr>
                    <a:xfrm rot="10583400">
                      <a:off x="7747200" y="512100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202" name="Straight Connector 157"/>
                  <p:cNvCxnSpPr/>
                  <p:nvPr/>
                </p:nvCxnSpPr>
                <p:spPr>
                  <a:xfrm flipH="1" flipV="1">
                    <a:off x="7619760" y="54100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03" name="Straight Connector 158"/>
                  <p:cNvCxnSpPr/>
                  <p:nvPr/>
                </p:nvCxnSpPr>
                <p:spPr>
                  <a:xfrm flipH="1" flipV="1">
                    <a:off x="8265240" y="487656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204" name="Group 91"/>
                <p:cNvGrpSpPr/>
                <p:nvPr/>
              </p:nvGrpSpPr>
              <p:grpSpPr>
                <a:xfrm>
                  <a:off x="8202960" y="4876560"/>
                  <a:ext cx="636120" cy="537120"/>
                  <a:chOff x="8202960" y="4876560"/>
                  <a:chExt cx="636120" cy="537120"/>
                </a:xfrm>
              </p:grpSpPr>
              <p:grpSp>
                <p:nvGrpSpPr>
                  <p:cNvPr id="205" name="Group 86"/>
                  <p:cNvGrpSpPr/>
                  <p:nvPr/>
                </p:nvGrpSpPr>
                <p:grpSpPr>
                  <a:xfrm>
                    <a:off x="8303400" y="4876920"/>
                    <a:ext cx="439920" cy="536400"/>
                    <a:chOff x="8303400" y="4876920"/>
                    <a:chExt cx="439920" cy="536400"/>
                  </a:xfrm>
                </p:grpSpPr>
                <p:sp>
                  <p:nvSpPr>
                    <p:cNvPr id="206" name="Freeform 154"/>
                    <p:cNvSpPr/>
                    <p:nvPr/>
                  </p:nvSpPr>
                  <p:spPr>
                    <a:xfrm flipH="1">
                      <a:off x="8303400" y="48769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207" name="Freeform 155"/>
                    <p:cNvSpPr/>
                    <p:nvPr/>
                  </p:nvSpPr>
                  <p:spPr>
                    <a:xfrm flipH="1" rot="11016600">
                      <a:off x="8510760" y="512136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208" name="Straight Connector 152"/>
                  <p:cNvCxnSpPr/>
                  <p:nvPr/>
                </p:nvCxnSpPr>
                <p:spPr>
                  <a:xfrm flipV="1">
                    <a:off x="8731080" y="541008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09" name="Straight Connector 153"/>
                  <p:cNvCxnSpPr/>
                  <p:nvPr/>
                </p:nvCxnSpPr>
                <p:spPr>
                  <a:xfrm flipV="1">
                    <a:off x="8202960" y="487656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cxnSp>
          <p:nvCxnSpPr>
            <p:cNvPr id="210" name="Straight Connector 145"/>
            <p:cNvCxnSpPr/>
            <p:nvPr/>
          </p:nvCxnSpPr>
          <p:spPr>
            <a:xfrm flipH="1">
              <a:off x="6553080" y="541008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211" name="Straight Connector 146"/>
            <p:cNvCxnSpPr/>
            <p:nvPr/>
          </p:nvCxnSpPr>
          <p:spPr>
            <a:xfrm flipH="1">
              <a:off x="8686800" y="541008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sp>
        <p:nvSpPr>
          <p:cNvPr id="212" name="TextBox 173"/>
          <p:cNvSpPr/>
          <p:nvPr/>
        </p:nvSpPr>
        <p:spPr>
          <a:xfrm>
            <a:off x="6477120" y="6019920"/>
            <a:ext cx="2437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ractical Clock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Connector 175"/>
          <p:cNvCxnSpPr/>
          <p:nvPr/>
        </p:nvCxnSpPr>
        <p:spPr>
          <a:xfrm>
            <a:off x="6553080" y="3657600"/>
            <a:ext cx="360" cy="91476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4" name="Straight Connector 176"/>
          <p:cNvCxnSpPr/>
          <p:nvPr/>
        </p:nvCxnSpPr>
        <p:spPr>
          <a:xfrm>
            <a:off x="6705360" y="3657600"/>
            <a:ext cx="360" cy="91476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5" name="Straight Connector 177"/>
          <p:cNvCxnSpPr/>
          <p:nvPr/>
        </p:nvCxnSpPr>
        <p:spPr>
          <a:xfrm>
            <a:off x="7696080" y="3657600"/>
            <a:ext cx="360" cy="198144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6" name="Straight Connector 178"/>
          <p:cNvCxnSpPr/>
          <p:nvPr/>
        </p:nvCxnSpPr>
        <p:spPr>
          <a:xfrm>
            <a:off x="8001000" y="3657600"/>
            <a:ext cx="360" cy="198144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sp>
        <p:nvSpPr>
          <p:cNvPr id="217" name="TextBox 185"/>
          <p:cNvSpPr/>
          <p:nvPr/>
        </p:nvSpPr>
        <p:spPr>
          <a:xfrm>
            <a:off x="6019920" y="411480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86"/>
          <p:cNvSpPr/>
          <p:nvPr/>
        </p:nvSpPr>
        <p:spPr>
          <a:xfrm>
            <a:off x="6095880" y="51814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87"/>
          <p:cNvSpPr/>
          <p:nvPr/>
        </p:nvSpPr>
        <p:spPr>
          <a:xfrm>
            <a:off x="6400800" y="4507560"/>
            <a:ext cx="609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sl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88"/>
          <p:cNvSpPr/>
          <p:nvPr/>
        </p:nvSpPr>
        <p:spPr>
          <a:xfrm>
            <a:off x="7696080" y="54100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652DAFFD-F321-462C-94A4-D95D326660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Clock Networks for Digital Circu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579096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iming yield dependant on clock net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tup constrai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old constrai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c-q,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su,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hold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slew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ocks designed via </a:t>
            </a:r>
            <a:r>
              <a:rPr b="1" i="1" lang="en-US" sz="2000" spc="-1" strike="noStrike">
                <a:solidFill>
                  <a:srgbClr val="000000"/>
                </a:solidFill>
                <a:latin typeface="Perpetua"/>
              </a:rPr>
              <a:t>clock synthe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signer has control over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slew,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25" name="Object 1"/>
          <p:cNvGraphicFramePr/>
          <p:nvPr/>
        </p:nvGraphicFramePr>
        <p:xfrm>
          <a:off x="2362320" y="990720"/>
          <a:ext cx="3123720" cy="3405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2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90720"/>
                    <a:ext cx="3123720" cy="3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2362320" y="1295280"/>
          <a:ext cx="2849400" cy="38052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295280"/>
                    <a:ext cx="2849400" cy="38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0" name="Straight Arrow Connector 10"/>
          <p:cNvCxnSpPr/>
          <p:nvPr/>
        </p:nvCxnSpPr>
        <p:spPr>
          <a:xfrm flipV="1">
            <a:off x="1904760" y="16761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1" name="Straight Arrow Connector 13"/>
          <p:cNvCxnSpPr/>
          <p:nvPr/>
        </p:nvCxnSpPr>
        <p:spPr>
          <a:xfrm flipV="1">
            <a:off x="3123360" y="16761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2" name="Rounded Rectangle 16"/>
          <p:cNvSpPr/>
          <p:nvPr/>
        </p:nvSpPr>
        <p:spPr>
          <a:xfrm>
            <a:off x="6477120" y="990720"/>
            <a:ext cx="2361960" cy="914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example(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2"/>
          <p:cNvGrpSpPr/>
          <p:nvPr/>
        </p:nvGrpSpPr>
        <p:grpSpPr>
          <a:xfrm>
            <a:off x="6705720" y="2895480"/>
            <a:ext cx="1675800" cy="573480"/>
            <a:chOff x="6705720" y="2895480"/>
            <a:chExt cx="1675800" cy="573480"/>
          </a:xfrm>
        </p:grpSpPr>
        <p:pic>
          <p:nvPicPr>
            <p:cNvPr id="234" name="Picture 20" descr="and.gif"/>
            <p:cNvPicPr/>
            <p:nvPr/>
          </p:nvPicPr>
          <p:blipFill>
            <a:blip r:embed="rId5"/>
            <a:stretch/>
          </p:blipFill>
          <p:spPr>
            <a:xfrm>
              <a:off x="6705720" y="2971800"/>
              <a:ext cx="91404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1" descr="or.gif"/>
            <p:cNvPicPr/>
            <p:nvPr/>
          </p:nvPicPr>
          <p:blipFill>
            <a:blip r:embed="rId6"/>
            <a:stretch/>
          </p:blipFill>
          <p:spPr>
            <a:xfrm>
              <a:off x="7543800" y="2895480"/>
              <a:ext cx="837720" cy="45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6" descr=""/>
          <p:cNvPicPr/>
          <p:nvPr/>
        </p:nvPicPr>
        <p:blipFill>
          <a:blip r:embed="rId7"/>
          <a:stretch/>
        </p:blipFill>
        <p:spPr>
          <a:xfrm>
            <a:off x="6858000" y="4724280"/>
            <a:ext cx="1712160" cy="1676160"/>
          </a:xfrm>
          <a:prstGeom prst="rect">
            <a:avLst/>
          </a:prstGeom>
          <a:ln w="9525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8"/>
          <a:stretch/>
        </p:blipFill>
        <p:spPr>
          <a:xfrm>
            <a:off x="4648320" y="4724280"/>
            <a:ext cx="1752120" cy="169884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9"/>
          <a:stretch/>
        </p:blipFill>
        <p:spPr>
          <a:xfrm>
            <a:off x="2514600" y="4876920"/>
            <a:ext cx="1828440" cy="1541880"/>
          </a:xfrm>
          <a:prstGeom prst="rect">
            <a:avLst/>
          </a:prstGeom>
          <a:ln w="9525">
            <a:noFill/>
          </a:ln>
        </p:spPr>
      </p:pic>
      <p:pic>
        <p:nvPicPr>
          <p:cNvPr id="239" name="Picture 9" descr=""/>
          <p:cNvPicPr/>
          <p:nvPr/>
        </p:nvPicPr>
        <p:blipFill>
          <a:blip r:embed="rId10"/>
          <a:stretch/>
        </p:blipFill>
        <p:spPr>
          <a:xfrm>
            <a:off x="380880" y="4724280"/>
            <a:ext cx="1676160" cy="1676160"/>
          </a:xfrm>
          <a:prstGeom prst="rect">
            <a:avLst/>
          </a:prstGeom>
          <a:ln w="9525">
            <a:noFill/>
          </a:ln>
        </p:spPr>
      </p:pic>
      <p:sp>
        <p:nvSpPr>
          <p:cNvPr id="240" name="Rounded Rectangle 27"/>
          <p:cNvSpPr/>
          <p:nvPr/>
        </p:nvSpPr>
        <p:spPr>
          <a:xfrm>
            <a:off x="6477120" y="2666880"/>
            <a:ext cx="2361960" cy="990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1" name="Rounded Rectangle 28"/>
          <p:cNvSpPr/>
          <p:nvPr/>
        </p:nvSpPr>
        <p:spPr>
          <a:xfrm>
            <a:off x="6705720" y="4572000"/>
            <a:ext cx="19807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2" name="Rounded Rectangle 29"/>
          <p:cNvSpPr/>
          <p:nvPr/>
        </p:nvSpPr>
        <p:spPr>
          <a:xfrm>
            <a:off x="228600" y="4572000"/>
            <a:ext cx="19807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3" name="Rounded Rectangle 30"/>
          <p:cNvSpPr/>
          <p:nvPr/>
        </p:nvSpPr>
        <p:spPr>
          <a:xfrm>
            <a:off x="2438280" y="4572000"/>
            <a:ext cx="40381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4" name="TextBox 31"/>
          <p:cNvSpPr/>
          <p:nvPr/>
        </p:nvSpPr>
        <p:spPr>
          <a:xfrm>
            <a:off x="4267080" y="5334120"/>
            <a:ext cx="3805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2"/>
          <p:cNvSpPr/>
          <p:nvPr/>
        </p:nvSpPr>
        <p:spPr>
          <a:xfrm>
            <a:off x="7086600" y="728280"/>
            <a:ext cx="129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DL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934320" y="2362320"/>
            <a:ext cx="1904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gic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own Arrow 34"/>
          <p:cNvSpPr/>
          <p:nvPr/>
        </p:nvSpPr>
        <p:spPr>
          <a:xfrm>
            <a:off x="7467480" y="1981080"/>
            <a:ext cx="380520" cy="380520"/>
          </a:xfrm>
          <a:prstGeom prst="downArrow">
            <a:avLst>
              <a:gd name="adj1" fmla="val 50000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7162920" y="4309560"/>
            <a:ext cx="121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n Arrow 36"/>
          <p:cNvSpPr/>
          <p:nvPr/>
        </p:nvSpPr>
        <p:spPr>
          <a:xfrm>
            <a:off x="7467480" y="3809880"/>
            <a:ext cx="380520" cy="533160"/>
          </a:xfrm>
          <a:prstGeom prst="downArrow">
            <a:avLst>
              <a:gd name="adj1" fmla="val 50000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0" name="Right Arrow 37"/>
          <p:cNvSpPr/>
          <p:nvPr/>
        </p:nvSpPr>
        <p:spPr>
          <a:xfrm flipH="1">
            <a:off x="6477120" y="5334120"/>
            <a:ext cx="228240" cy="3805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1" name="Right Arrow 38"/>
          <p:cNvSpPr/>
          <p:nvPr/>
        </p:nvSpPr>
        <p:spPr>
          <a:xfrm flipH="1">
            <a:off x="2209680" y="5334120"/>
            <a:ext cx="228240" cy="3805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3581280" y="4309560"/>
            <a:ext cx="2133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chemeClr val="accent1"/>
                </a:solidFill>
                <a:latin typeface="Perpetua"/>
              </a:rPr>
              <a:t>Clock Synthesis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[ref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0"/>
          <p:cNvSpPr/>
          <p:nvPr/>
        </p:nvSpPr>
        <p:spPr>
          <a:xfrm>
            <a:off x="609480" y="4309560"/>
            <a:ext cx="1371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inal Ro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Bent-Up Arrow 43"/>
          <p:cNvSpPr/>
          <p:nvPr/>
        </p:nvSpPr>
        <p:spPr>
          <a:xfrm flipV="1">
            <a:off x="5257800" y="2514600"/>
            <a:ext cx="990360" cy="1980720"/>
          </a:xfrm>
          <a:prstGeom prst="bentUpArrow">
            <a:avLst>
              <a:gd name="adj1" fmla="val 10714"/>
              <a:gd name="adj2" fmla="val 12353"/>
              <a:gd name="adj3" fmla="val 26618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5" name="Cloud Callout 44"/>
          <p:cNvSpPr/>
          <p:nvPr/>
        </p:nvSpPr>
        <p:spPr>
          <a:xfrm>
            <a:off x="2819520" y="3733920"/>
            <a:ext cx="1752120" cy="6854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22225">
            <a:solidFill>
              <a:srgbClr val="d348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/>
                </a:solidFill>
                <a:latin typeface="Perpetua"/>
              </a:rPr>
              <a:t>Well defined</a:t>
            </a: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0DA28090-A86E-44E1-88CB-49A459B7BAF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976AE36A-16F2-4D72-AC49-6B1F7405A5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b-threshold Problems for Clock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54860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tbacks of sub-threshold impose difficulty for quality clock net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xponential dependency 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variati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v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 drive strengths (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× les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ire delay no longer a facto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re load still relevant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 Impact on Clock Net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th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k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and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lso increases short circuit pow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63" name="Object 1"/>
          <p:cNvGraphicFramePr/>
          <p:nvPr/>
        </p:nvGraphicFramePr>
        <p:xfrm>
          <a:off x="171000" y="1447920"/>
          <a:ext cx="2952720" cy="5331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2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000" y="1447920"/>
                    <a:ext cx="29527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2"/>
          <p:cNvGraphicFramePr/>
          <p:nvPr/>
        </p:nvGraphicFramePr>
        <p:xfrm>
          <a:off x="3352680" y="1447920"/>
          <a:ext cx="1961280" cy="53316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26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447920"/>
                    <a:ext cx="19612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7" name="Straight Arrow Connector 8"/>
          <p:cNvCxnSpPr/>
          <p:nvPr/>
        </p:nvCxnSpPr>
        <p:spPr>
          <a:xfrm flipV="1">
            <a:off x="1676160" y="32763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8" name="Straight Arrow Connector 9"/>
          <p:cNvCxnSpPr/>
          <p:nvPr/>
        </p:nvCxnSpPr>
        <p:spPr>
          <a:xfrm flipV="1">
            <a:off x="2742120" y="3276360"/>
            <a:ext cx="144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269" name="Group 19"/>
          <p:cNvGrpSpPr/>
          <p:nvPr/>
        </p:nvGrpSpPr>
        <p:grpSpPr>
          <a:xfrm>
            <a:off x="2133720" y="4114800"/>
            <a:ext cx="2950920" cy="2583720"/>
            <a:chOff x="2133720" y="4114800"/>
            <a:chExt cx="2950920" cy="2583720"/>
          </a:xfrm>
        </p:grpSpPr>
        <p:pic>
          <p:nvPicPr>
            <p:cNvPr id="270" name="Picture 4" descr=""/>
            <p:cNvPicPr/>
            <p:nvPr/>
          </p:nvPicPr>
          <p:blipFill>
            <a:blip r:embed="rId5"/>
            <a:stretch/>
          </p:blipFill>
          <p:spPr>
            <a:xfrm>
              <a:off x="2133720" y="4114800"/>
              <a:ext cx="2950920" cy="22093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71" name="TextBox 15"/>
            <p:cNvSpPr/>
            <p:nvPr/>
          </p:nvSpPr>
          <p:spPr>
            <a:xfrm>
              <a:off x="2438280" y="6243840"/>
              <a:ext cx="236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degradation with process variation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6172200" y="990720"/>
            <a:ext cx="2666880" cy="2923200"/>
            <a:chOff x="6172200" y="990720"/>
            <a:chExt cx="2666880" cy="2923200"/>
          </a:xfrm>
        </p:grpSpPr>
        <p:sp>
          <p:nvSpPr>
            <p:cNvPr id="273" name="TextBox 16"/>
            <p:cNvSpPr/>
            <p:nvPr/>
          </p:nvSpPr>
          <p:spPr>
            <a:xfrm>
              <a:off x="6477120" y="3276720"/>
              <a:ext cx="23619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Monte Carlo simulation of delay exhibiting non-Gaussian 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8"/>
            <p:cNvSpPr/>
            <p:nvPr/>
          </p:nvSpPr>
          <p:spPr>
            <a:xfrm>
              <a:off x="7315200" y="3137400"/>
              <a:ext cx="990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Perpetua"/>
                </a:rPr>
                <a:t>Delay(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7" descr=""/>
            <p:cNvPicPr/>
            <p:nvPr/>
          </p:nvPicPr>
          <p:blipFill>
            <a:blip r:embed="rId6"/>
            <a:stretch/>
          </p:blipFill>
          <p:spPr>
            <a:xfrm>
              <a:off x="6172200" y="990720"/>
              <a:ext cx="2653560" cy="22093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76" name="Group 24"/>
          <p:cNvGrpSpPr/>
          <p:nvPr/>
        </p:nvGrpSpPr>
        <p:grpSpPr>
          <a:xfrm>
            <a:off x="5943600" y="4038480"/>
            <a:ext cx="2796480" cy="2505960"/>
            <a:chOff x="5943600" y="4038480"/>
            <a:chExt cx="2796480" cy="2505960"/>
          </a:xfrm>
        </p:grpSpPr>
        <p:pic>
          <p:nvPicPr>
            <p:cNvPr id="277" name="Picture 5" descr=""/>
            <p:cNvPicPr/>
            <p:nvPr/>
          </p:nvPicPr>
          <p:blipFill>
            <a:blip r:embed="rId7"/>
            <a:stretch/>
          </p:blipFill>
          <p:spPr>
            <a:xfrm>
              <a:off x="5943600" y="4038480"/>
              <a:ext cx="2765880" cy="2233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78" name="TextBox 21"/>
            <p:cNvSpPr/>
            <p:nvPr/>
          </p:nvSpPr>
          <p:spPr>
            <a:xfrm>
              <a:off x="6172200" y="6247440"/>
              <a:ext cx="2567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Transistor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gs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-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D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 curve[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20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067DA471-65DF-41C0-9CDA-13DE804A58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b-threshold Problems for Clock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562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a problem in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hort circuit power(not a focus in super-threshold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 drive strength=less control(10’s ns vs. 1 p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caling won’t 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Up to 90% deterministic variation in timing paramet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n re-design directly in sub-threshold, but undermines low pow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82" name="Group 27"/>
          <p:cNvGrpSpPr/>
          <p:nvPr/>
        </p:nvGrpSpPr>
        <p:grpSpPr>
          <a:xfrm>
            <a:off x="5867280" y="533520"/>
            <a:ext cx="2822040" cy="1597680"/>
            <a:chOff x="5867280" y="533520"/>
            <a:chExt cx="2822040" cy="1597680"/>
          </a:xfrm>
        </p:grpSpPr>
        <p:pic>
          <p:nvPicPr>
            <p:cNvPr id="283" name="Picture 2" descr=""/>
            <p:cNvPicPr/>
            <p:nvPr/>
          </p:nvPicPr>
          <p:blipFill>
            <a:blip r:embed="rId1"/>
            <a:stretch/>
          </p:blipFill>
          <p:spPr>
            <a:xfrm>
              <a:off x="5867280" y="533520"/>
              <a:ext cx="2822040" cy="12189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84" name="TextBox 16"/>
            <p:cNvSpPr/>
            <p:nvPr/>
          </p:nvSpPr>
          <p:spPr>
            <a:xfrm>
              <a:off x="6553080" y="1676520"/>
              <a:ext cx="15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Example of regis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1"/>
          <p:cNvGrpSpPr/>
          <p:nvPr/>
        </p:nvGrpSpPr>
        <p:grpSpPr>
          <a:xfrm>
            <a:off x="5867280" y="2209680"/>
            <a:ext cx="2209320" cy="1980720"/>
            <a:chOff x="5867280" y="2209680"/>
            <a:chExt cx="2209320" cy="1980720"/>
          </a:xfrm>
        </p:grpSpPr>
        <p:sp>
          <p:nvSpPr>
            <p:cNvPr id="286" name="TextBox 17"/>
            <p:cNvSpPr/>
            <p:nvPr/>
          </p:nvSpPr>
          <p:spPr>
            <a:xfrm>
              <a:off x="6248520" y="3913920"/>
              <a:ext cx="1523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caled Clock Tr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20"/>
            <p:cNvGrpSpPr/>
            <p:nvPr/>
          </p:nvGrpSpPr>
          <p:grpSpPr>
            <a:xfrm>
              <a:off x="5867280" y="2209680"/>
              <a:ext cx="2209320" cy="1980720"/>
              <a:chOff x="5867280" y="2209680"/>
              <a:chExt cx="2209320" cy="1980720"/>
            </a:xfrm>
          </p:grpSpPr>
          <p:pic>
            <p:nvPicPr>
              <p:cNvPr id="288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3600" y="2209680"/>
                <a:ext cx="2077920" cy="175212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289" name="Rounded Rectangle 18"/>
              <p:cNvSpPr/>
              <p:nvPr/>
            </p:nvSpPr>
            <p:spPr>
              <a:xfrm>
                <a:off x="5867280" y="2209680"/>
                <a:ext cx="2209320" cy="1980720"/>
              </a:xfrm>
              <a:prstGeom prst="roundRect">
                <a:avLst>
                  <a:gd name="adj" fmla="val 16667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Perpetua"/>
                </a:endParaRPr>
              </a:p>
            </p:txBody>
          </p:sp>
        </p:grpSp>
      </p:grpSp>
      <p:grpSp>
        <p:nvGrpSpPr>
          <p:cNvPr id="290" name="Group 23"/>
          <p:cNvGrpSpPr/>
          <p:nvPr/>
        </p:nvGrpSpPr>
        <p:grpSpPr>
          <a:xfrm>
            <a:off x="5715000" y="4495680"/>
            <a:ext cx="2514240" cy="2057040"/>
            <a:chOff x="5715000" y="4495680"/>
            <a:chExt cx="2514240" cy="2057040"/>
          </a:xfrm>
        </p:grpSpPr>
        <p:pic>
          <p:nvPicPr>
            <p:cNvPr id="291" name="Picture 4" descr=""/>
            <p:cNvPicPr/>
            <p:nvPr/>
          </p:nvPicPr>
          <p:blipFill>
            <a:blip r:embed="rId3"/>
            <a:stretch/>
          </p:blipFill>
          <p:spPr>
            <a:xfrm>
              <a:off x="5815440" y="4495680"/>
              <a:ext cx="2332080" cy="20059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92" name="Rounded Rectangle 19"/>
            <p:cNvSpPr/>
            <p:nvPr/>
          </p:nvSpPr>
          <p:spPr>
            <a:xfrm>
              <a:off x="5715000" y="4495680"/>
              <a:ext cx="2514240" cy="205704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293" name="Group 24"/>
          <p:cNvGrpSpPr/>
          <p:nvPr/>
        </p:nvGrpSpPr>
        <p:grpSpPr>
          <a:xfrm>
            <a:off x="2057400" y="4495680"/>
            <a:ext cx="2590560" cy="1981080"/>
            <a:chOff x="2057400" y="4495680"/>
            <a:chExt cx="2590560" cy="1981080"/>
          </a:xfrm>
        </p:grpSpPr>
        <p:pic>
          <p:nvPicPr>
            <p:cNvPr id="294" name="Picture 5" descr=""/>
            <p:cNvPicPr/>
            <p:nvPr/>
          </p:nvPicPr>
          <p:blipFill>
            <a:blip r:embed="rId4"/>
            <a:stretch/>
          </p:blipFill>
          <p:spPr>
            <a:xfrm>
              <a:off x="2161080" y="4595040"/>
              <a:ext cx="2363760" cy="1881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95" name="Rounded Rectangle 22"/>
            <p:cNvSpPr/>
            <p:nvPr/>
          </p:nvSpPr>
          <p:spPr>
            <a:xfrm>
              <a:off x="2057400" y="4495680"/>
              <a:ext cx="2590560" cy="198072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d3481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sp>
        <p:nvSpPr>
          <p:cNvPr id="296" name="Down Arrow 26"/>
          <p:cNvSpPr/>
          <p:nvPr/>
        </p:nvSpPr>
        <p:spPr>
          <a:xfrm>
            <a:off x="6858000" y="4191120"/>
            <a:ext cx="30456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97" name="Down Arrow 28"/>
          <p:cNvSpPr/>
          <p:nvPr/>
        </p:nvSpPr>
        <p:spPr>
          <a:xfrm flipV="1" rot="16200000">
            <a:off x="4991400" y="4914000"/>
            <a:ext cx="380520" cy="10663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8153280" y="632448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0"/>
          <p:cNvSpPr/>
          <p:nvPr/>
        </p:nvSpPr>
        <p:spPr>
          <a:xfrm>
            <a:off x="4572000" y="627624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2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925ED29B-B6CB-4AA8-A515-BD78C932AC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8532</TotalTime>
  <Application>LibreOffice/7.4.7.2$Linux_X86_64 LibreOffice_project/40$Build-2</Application>
  <AppVersion>15.0000</AppVersion>
  <Words>1135</Word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1:50:11Z</dcterms:created>
  <dc:creator>Yanqing Zhang</dc:creator>
  <dc:description/>
  <dc:language>en-US</dc:language>
  <cp:lastModifiedBy>Yanqing Zhang</cp:lastModifiedBy>
  <dcterms:modified xsi:type="dcterms:W3CDTF">2011-02-13T16:26:41Z</dcterms:modified>
  <cp:revision>495</cp:revision>
  <dc:subject/>
  <dc:title>On Clock Network Design for Sub-threshold Circui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1</vt:r8>
  </property>
</Properties>
</file>